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0CB-F4CF-4EA9-A9A9-35792EE6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C0B-0983-4E96-B276-668E5BA8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FE0-3BFF-4018-9995-4AA70512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CD3-6096-48DF-895D-DF3F181F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976-143F-436A-9677-EDF4F773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34D-D459-4F5D-A664-04E2FCF3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757-16F4-48B7-99E9-37623720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288-E026-4666-830C-1594AFA4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738-9D94-49E5-963A-3C11C14A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AB7-1875-48C3-AB44-E71EE0F5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D7C-A752-47D5-ACB2-C75AD2A1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7DC-D8DB-4A55-B24B-14567563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.Н. Дудина, ГОУ СОШ № 2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5181-C3DA-4300-9236-F3CB445353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429000" y="63244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 rot="10672800">
            <a:off x="223560" y="11746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04920" y="380880"/>
            <a:ext cx="8305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760076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AT DO YOU DO TO HELP YOUR FAMILY?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760076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8229600" y="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7872480" y="0"/>
            <a:ext cx="12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0" descr="opekaspb.ru.jpeg"/>
          <p:cNvPicPr/>
          <p:nvPr/>
        </p:nvPicPr>
        <p:blipFill>
          <a:blip r:embed="rId1"/>
          <a:stretch/>
        </p:blipFill>
        <p:spPr>
          <a:xfrm>
            <a:off x="1596960" y="1822320"/>
            <a:ext cx="5956200" cy="4359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repair one’s b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велосипед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7848720" y="0"/>
            <a:ext cx="15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971800" y="228600"/>
            <a:ext cx="48006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Find a friend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who..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057400" y="1905120"/>
          <a:ext cx="6858000" cy="4895640"/>
        </p:xfrm>
        <a:graphic>
          <a:graphicData uri="http://schemas.openxmlformats.org/drawingml/2006/table">
            <a:tbl>
              <a:tblPr/>
              <a:tblGrid>
                <a:gridCol w="5281560"/>
                <a:gridCol w="1576440"/>
              </a:tblGrid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FIND A FRIEND WHO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e his/her bed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d the tabl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 the washing up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ed the phone call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ned the room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d the pet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ed the flower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ok a pet for a walk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aired his/her bik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158" descr="выгул собак"/>
          <p:cNvPicPr/>
          <p:nvPr/>
        </p:nvPicPr>
        <p:blipFill>
          <a:blip r:embed="rId1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9" descr="мойка"/>
          <p:cNvPicPr/>
          <p:nvPr/>
        </p:nvPicPr>
        <p:blipFill>
          <a:blip r:embed="rId2"/>
          <a:stretch/>
        </p:blipFill>
        <p:spPr>
          <a:xfrm>
            <a:off x="228600" y="990720"/>
            <a:ext cx="1104840" cy="115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0" descr="на стол"/>
          <p:cNvPicPr/>
          <p:nvPr/>
        </p:nvPicPr>
        <p:blipFill>
          <a:blip r:embed="rId3"/>
          <a:stretch/>
        </p:blipFill>
        <p:spPr>
          <a:xfrm>
            <a:off x="152280" y="304812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1" descr="telefon"/>
          <p:cNvPicPr/>
          <p:nvPr/>
        </p:nvPicPr>
        <p:blipFill>
          <a:blip r:embed="rId4"/>
          <a:stretch/>
        </p:blipFill>
        <p:spPr>
          <a:xfrm>
            <a:off x="685800" y="1905120"/>
            <a:ext cx="114300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2" descr="47109844_mes_11819[1]"/>
          <p:cNvPicPr/>
          <p:nvPr/>
        </p:nvPicPr>
        <p:blipFill>
          <a:blip r:embed="rId5"/>
          <a:stretch/>
        </p:blipFill>
        <p:spPr>
          <a:xfrm>
            <a:off x="762120" y="5715000"/>
            <a:ext cx="1066680" cy="10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3" descr="Кровать"/>
          <p:cNvPicPr/>
          <p:nvPr/>
        </p:nvPicPr>
        <p:blipFill>
          <a:blip r:embed="rId6"/>
          <a:stretch/>
        </p:blipFill>
        <p:spPr>
          <a:xfrm>
            <a:off x="152280" y="4876920"/>
            <a:ext cx="1128960" cy="11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4" descr="Кормить"/>
          <p:cNvPicPr/>
          <p:nvPr/>
        </p:nvPicPr>
        <p:blipFill>
          <a:blip r:embed="rId7"/>
          <a:stretch/>
        </p:blipFill>
        <p:spPr>
          <a:xfrm>
            <a:off x="762120" y="3809880"/>
            <a:ext cx="1066680" cy="105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65"/>
          <p:cNvSpPr/>
          <p:nvPr/>
        </p:nvSpPr>
        <p:spPr>
          <a:xfrm>
            <a:off x="7920000" y="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#4_25_Ventura_Hotel california.mp3" descr=""/>
          <p:cNvPicPr/>
          <p:nvPr/>
        </p:nvPicPr>
        <p:blipFill>
          <a:blip r:embed="rId8"/>
          <a:stretch/>
        </p:blipFill>
        <p:spPr>
          <a:xfrm>
            <a:off x="86104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7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7467480" y="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772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680240" y="-39600"/>
            <a:ext cx="146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Кровать"/>
          <p:cNvPicPr/>
          <p:nvPr/>
        </p:nvPicPr>
        <p:blipFill>
          <a:blip r:embed="rId1"/>
          <a:stretch/>
        </p:blipFill>
        <p:spPr>
          <a:xfrm>
            <a:off x="1555920" y="1600200"/>
            <a:ext cx="6216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make one’s 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Кровать"/>
          <p:cNvPicPr/>
          <p:nvPr/>
        </p:nvPicPr>
        <p:blipFill>
          <a:blip r:embed="rId2"/>
          <a:stretch/>
        </p:blipFill>
        <p:spPr>
          <a:xfrm>
            <a:off x="1517760" y="1596960"/>
            <a:ext cx="623088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1600200" y="55990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600200" y="5791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lay th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на стол"/>
          <p:cNvPicPr/>
          <p:nvPr/>
        </p:nvPicPr>
        <p:blipFill>
          <a:blip r:embed="rId1"/>
          <a:stretch/>
        </p:blipFill>
        <p:spPr>
          <a:xfrm>
            <a:off x="1371600" y="1523880"/>
            <a:ext cx="6248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do the wash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мойка"/>
          <p:cNvPicPr/>
          <p:nvPr/>
        </p:nvPicPr>
        <p:blipFill>
          <a:blip r:embed="rId1"/>
          <a:stretch/>
        </p:blipFill>
        <p:spPr>
          <a:xfrm>
            <a:off x="1447920" y="1523880"/>
            <a:ext cx="6172200" cy="4496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answer phone c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telefon"/>
          <p:cNvPicPr/>
          <p:nvPr/>
        </p:nvPicPr>
        <p:blipFill>
          <a:blip r:embed="rId1"/>
          <a:stretch/>
        </p:blipFill>
        <p:spPr>
          <a:xfrm>
            <a:off x="1397160" y="1523880"/>
            <a:ext cx="6349680" cy="4383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clean the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47109844_mes_11819[1]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to feed the p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ормить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water the fl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Цветы 2"/>
          <p:cNvPicPr/>
          <p:nvPr/>
        </p:nvPicPr>
        <p:blipFill>
          <a:blip r:embed="rId1"/>
          <a:stretch/>
        </p:blipFill>
        <p:spPr>
          <a:xfrm>
            <a:off x="1295280" y="1600200"/>
            <a:ext cx="640080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take a pet for a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выгул собак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4572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0:0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